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9.png" ContentType="image/png"/>
  <Override PartName="/ppt/media/image22.jpeg" ContentType="image/jpe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375-B398-4BF8-8663-8E27FE04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BB9-A5B7-4BC6-ABB6-5FE0B63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756-8676-4925-9E5D-23ABEC67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2F1-9D18-4735-AE42-19999A68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2D95-D921-40AB-9C31-FAD5B5B3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C942-6731-4EA9-879D-86D03FF2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C6D1-E24D-415D-9F9A-C58C28C0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777B-3DD3-4151-A479-F8B20682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20CE-4066-4229-BB24-9DD38F9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4F0-16C9-4C83-A947-6A7632CE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7B64-480A-4990-9821-087D3DB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68B-66DE-4FD7-8A2D-DBD7E9C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395-F883-40BB-9526-17F96DF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0FE9-0C8A-4366-AB47-45EED22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53B8-B78F-450D-9C9E-A80793DC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ACB7-1054-413E-BB73-230AE471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AAEE-66E2-40A8-BEF5-65261D6C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4C2-1F64-414E-80FA-34742C3B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E89-BE55-4AB5-A469-1A44FD6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DD2-3E70-4E0E-BBA0-EB70E6BF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F44-89C6-4093-82CD-2C151D75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9A6-77BE-4C1E-A908-F3A36B1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D96-768F-4074-9858-F099F15F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C54-5753-48A2-A876-0E995F3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D229-A660-46E7-952E-CB6017FD475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3142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204A-6632-47FB-A372-A97FAFA9C49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olitics and Life in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 History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hapter 27-29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00400" y="15840"/>
            <a:ext cx="449568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  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585144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If Capital &amp; Labor Don’t Pull Together” – </a:t>
            </a:r>
            <a:r>
              <a:rPr b="1" i="1" lang="en-US" sz="25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5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0" r="0" b="10606"/>
          <a:stretch/>
        </p:blipFill>
        <p:spPr>
          <a:xfrm>
            <a:off x="2887560" y="762120"/>
            <a:ext cx="4808520" cy="487656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Eurostile"/>
              </a:rPr>
              <a:t>Consequences of Labor Unrest</a:t>
            </a:r>
            <a:endParaRPr b="0" lang="en-US" sz="3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6172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ile We Rock the Boat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Washington Ti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0" r="0" b="12504"/>
          <a:stretch/>
        </p:blipFill>
        <p:spPr>
          <a:xfrm>
            <a:off x="304920" y="1143000"/>
            <a:ext cx="434808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2133360" cy="4038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Coal Miners’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6095880"/>
            <a:ext cx="647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Keeping Warm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Los Angeles Times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contrast="6000"/>
          </a:blip>
          <a:srcRect l="0" t="0" r="0" b="8698"/>
          <a:stretch/>
        </p:blipFill>
        <p:spPr>
          <a:xfrm>
            <a:off x="3459240" y="914400"/>
            <a:ext cx="4008240" cy="51055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1981080" cy="2210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Eurostile"/>
              </a:rPr>
              <a:t>Steel  Strike - 1919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ming Out of the Smoke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ew York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>
            <a:lum contrast="6000"/>
          </a:blip>
          <a:srcRect l="0" t="0" r="0" b="10148"/>
          <a:stretch/>
        </p:blipFill>
        <p:spPr>
          <a:xfrm>
            <a:off x="3100320" y="990720"/>
            <a:ext cx="47484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0" t="0" r="0" b="10670"/>
          <a:stretch/>
        </p:blipFill>
        <p:spPr>
          <a:xfrm>
            <a:off x="1600200" y="685800"/>
            <a:ext cx="571500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19" name=""/>
          <p:cNvSpPr/>
          <p:nvPr/>
        </p:nvSpPr>
        <p:spPr>
          <a:xfrm>
            <a:off x="1828800" y="57913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He gives aid &amp; comfort to the enemies of society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76320"/>
            <a:ext cx="64771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16256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Boston Police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>
            <a:lum contrast="6000"/>
          </a:blip>
          <a:srcRect l="0" t="0" r="639" b="10000"/>
          <a:stretch/>
        </p:blipFill>
        <p:spPr>
          <a:xfrm>
            <a:off x="3135240" y="1143000"/>
            <a:ext cx="471348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1752480" y="6064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Striking Back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New York Evening World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to ‘Normalcy’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Kellogg-Briand Pac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ernational agreement against using war as an instrument of national polic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mall proble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 way to enfor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mmigration Quota System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aximum number of people allowed to enter US by foreign country (changes from year to year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mmigration Chan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09200" y="2170080"/>
            <a:ext cx="209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ed = North/We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Blue = South/Ea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usiness of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ved road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rban spraw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dependence and economic rev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lectric Convenien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adios ($75), washing machine ($150), sewing machine ($60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vertising, credit, and consumer choi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ord Model T and Model 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476440" cy="1619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147680" y="472428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15 million produce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4761000"/>
            <a:ext cx="26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2 million people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Viewed in NY on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rst da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ost-War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newed isolatio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suspicion of foreign-born peop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political conservatism (traditional valu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urning away from progressive refor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ear of Commu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mmunism – an economic and political system that advocates a single political party and state ownership of proper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85800" y="930240"/>
            <a:ext cx="7772400" cy="484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93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The Prohibition Experiment</a:t>
            </a:r>
            <a:br>
              <a:rPr sz="4000"/>
            </a:b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1920-1933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Various religious groups thought alcohol was sinfu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ed to protect the public’s health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cohol leads to crime, domestic abuse, and job issu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ativism – against foreign born brewers and immigrants that used alcoh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idespread disregard for the law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creased smuggling and bootlegg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w source of criminal inco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irth of organized cri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hibi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287360" y="1981080"/>
            <a:ext cx="2605320" cy="41148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510000" cy="2614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Twenties Wom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ashio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at do clothing styles reflect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moking, dancing, and drin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rriag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irth Control – Margaret Sang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10 million women workers (24% of the tot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wenties Fash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04840" y="2139840"/>
            <a:ext cx="2971800" cy="3797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istory Repeats Itsel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rents feel their children are staying out too la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rime is on the ri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runkenness is a serious proble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risking their savings on stock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spending money on things they don’t ne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spend too much time listening to musi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don’t spend enough time on schoolwor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omen spend less time at home being wives and mother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are going out in cars and it is unsaf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oday’s new music is terrible and ruining young peop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ice” girls shouldn’t smoke, wear tight clothes or drin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tertainment of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ports Hero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aseball – Babe Ruth (60 HR in 1927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oxing – Jack Dempsey vs. Gene Tunney (150,000 viewer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otball – Notre Dame &amp; Knute Rockne (Five undefeated season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wimming – Gertrude Ederle – first woman to swim the English Chann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unney vs. Demps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3880" y="1479600"/>
            <a:ext cx="6216840" cy="537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Entertainme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harles Lindbergh’s Flight – first nonstop solo flight across the Atlantic (34 hours = $25,000 priz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ies – from silent to sound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ic &amp; Litera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orge Gershwin – compos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lair Lewis – first American Nobel Prize for literatur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rnest Hemingwa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ewspapers and weekly magazines (Time, Reader’s Dige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257800" cy="457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The “Red Scare”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at a Year Has Brought Forth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Y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>
            <a:lum contrast="6000"/>
          </a:blip>
          <a:srcRect l="0" t="0" r="0" b="9524"/>
          <a:stretch/>
        </p:blipFill>
        <p:spPr>
          <a:xfrm>
            <a:off x="3276720" y="1295280"/>
            <a:ext cx="418932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The Movie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new culture of youth and celebrity emerged with the popularity of the movie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2584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 The Mov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59432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udolph Valentino and Clara Bow- two sex symbols and film icons of the Jazz Age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4788000" y="1981080"/>
            <a:ext cx="2975040" cy="3602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333440" y="1981080"/>
            <a:ext cx="2908440" cy="3602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Radi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s the popularity of radio expanded, advertisers began sponsoring radio shows to appeal to consumer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y the end of the decade, 40% of homes had radio receivers. </a:t>
            </a:r>
            <a:br>
              <a:rPr sz="2400"/>
            </a:b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182760" cy="4786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Mass Culture: Music and the Music Industry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3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 America developed mass culture through film, advertising, and radio, previously isolated musical styles blended to produce lively and often rebellious radio hit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343400" cy="374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frican-America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y the end of the 1920’s almost five million African-Americans lived in cities (40%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uge numbers of race riots (25 in 1919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s – NAACP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test racial viol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mote legislation to protect African-American righ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039680" y="609480"/>
            <a:ext cx="706284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rcus Garv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unded Universal Negro Improvement Associ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mote African-American busines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pport a ‘Back to Africa’ mov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lack Star Lin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lonize a n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nvicted of mail fraud and jail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egacy =  black pride, economic independence and reverence for Afric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arlem Renaissa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terary and artistic movement celebrating African-American cul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y Harle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Mix of southerners, West Indies, Cuba, Puerto Rico, and Haiti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orld’s largest black urban commun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Key figur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laude McKay – militant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angston Hughes –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ouis Armstrong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uke Ellington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cience vs. Relig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damentalism – literal interpretation of the Bi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dam &amp; Eve or a Monkey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olu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rea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Scopes Tria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ayton, Tennessee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Defenda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981160" y="1981080"/>
            <a:ext cx="31798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8229600" cy="974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Red Scare” -- Anti-Communism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743440"/>
            <a:ext cx="662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Put Them Out &amp; Keep Them Out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Philadelphia Inquirer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>
            <a:lum contrast="6000"/>
          </a:blip>
          <a:srcRect l="0" t="0" r="0" b="13846"/>
          <a:stretch/>
        </p:blipFill>
        <p:spPr>
          <a:xfrm>
            <a:off x="380880" y="1219320"/>
            <a:ext cx="4648320" cy="45590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Lawye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952640" y="1981080"/>
            <a:ext cx="5237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Outcom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opes – Guilty $100 fi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rrow wins verbal war by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king Bryan if God created the world in 6 days (as we know a day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ryan’s answer cast doubt on the length of the day (which weakens the fundamentalist argument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1920s Revie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acco &amp; Vanzetti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auses/Effects of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s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rlem Renaiss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damental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opes Tr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7315200" cy="503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cc3300"/>
                </a:solidFill>
                <a:latin typeface="Eurostile"/>
              </a:rPr>
              <a:t>Red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Scare” – Palmer Raid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6172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. Mitchell Palmer’s Home Bombed, 192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>
            <a:lum contrast="6000"/>
          </a:blip>
          <a:srcRect l="0" t="0" r="0" b="11594"/>
          <a:stretch/>
        </p:blipFill>
        <p:spPr>
          <a:xfrm>
            <a:off x="3581280" y="990720"/>
            <a:ext cx="35928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of the Kl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1924 membership = 4.5 mill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elief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Keep “blacks in their place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rive Catholics, Jews, and foreign-born out of the count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nforce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pose labor un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2927160" cy="548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43040" y="182556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Picnic with the Kl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Milwauk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38098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2971800"/>
            <a:ext cx="274320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We promise a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hot” lunch!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495680" y="609480"/>
            <a:ext cx="3924360" cy="2857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17680" y="990720"/>
            <a:ext cx="31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Welcome no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to a Madison, W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African-Americ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832120" cy="2361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733920" y="1523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02520" y="431316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mic Sans MS"/>
              </a:rPr>
              <a:t>What is the symbolis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51814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ti-Labor Mov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nions tied to Communist belief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ecline in Union Membersh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ise in im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ement from rural area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clusion of African-America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20:35:47Z</dcterms:created>
  <dc:creator> </dc:creator>
  <dc:description/>
  <dc:language>en-US</dc:language>
  <cp:lastModifiedBy>School District U46</cp:lastModifiedBy>
  <dcterms:modified xsi:type="dcterms:W3CDTF">2009-12-07T14:29:38Z</dcterms:modified>
  <cp:revision>19</cp:revision>
  <dc:subject/>
  <dc:title>Politics and Life in the 1920’s</dc:title>
</cp:coreProperties>
</file>